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7.jpeg" ContentType="image/jpeg"/>
  <Override PartName="/ppt/media/image3.png" ContentType="image/png"/>
  <Override PartName="/ppt/media/image11.wmf" ContentType="image/x-wmf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4.png" ContentType="image/pn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2EF-0385-4390-BE5D-43CC7673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7E4-E34F-4096-931A-3AF8FD4A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B3D-8DDB-4E2F-A9C4-BE15B72D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779-9703-4134-AE4C-E20750AC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F8A-630C-4445-9199-490E268E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C24-A90A-450C-88D6-B7B101A9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BF7-6F75-4B71-997F-8E66184F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A97-3F89-4C06-846F-083D9B57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373-2940-4458-9C3A-72B84D43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879-DCA2-4F85-835A-538BC687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691-386E-4052-BAA9-C701EB01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917-39F1-49AA-9D63-A5A3F38B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4B60-A553-4565-867F-5C9B0BF317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433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28600" y="1600200"/>
            <a:ext cx="8458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ings made by nature and used by people are calle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ner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renewable resou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some examples of renewable resou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Renewabl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37720"/>
            <a:ext cx="4800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9194d"/>
                </a:solidFill>
                <a:uFillTx/>
                <a:latin typeface="Arial"/>
              </a:rPr>
              <a:t>Non-renewable resources take a long time to repl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9194d"/>
                </a:solidFill>
                <a:uFillTx/>
                <a:latin typeface="Arial"/>
              </a:rPr>
              <a:t>Examples: Fossil fuels such as coal, oil and natural gas and miner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 flipV="1">
            <a:off x="6858000" y="6624720"/>
            <a:ext cx="1905120" cy="2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800600" y="1600200"/>
            <a:ext cx="3886200" cy="146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2bfc5"/>
                </a:solidFill>
                <a:latin typeface="Arial"/>
                <a:ea typeface="Arial"/>
              </a:rPr>
              <a:t>Non- Renewable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ttp://www.greenscreen.org/articles_sr/planet_earth/images_natural_resources/oil.jpg"/>
          <p:cNvPicPr/>
          <p:nvPr/>
        </p:nvPicPr>
        <p:blipFill>
          <a:blip r:embed="rId1"/>
          <a:srcRect l="0" t="34145" r="0" b="0"/>
          <a:stretch/>
        </p:blipFill>
        <p:spPr>
          <a:xfrm>
            <a:off x="4800600" y="2743200"/>
            <a:ext cx="205740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greenscreen.org/articles_sr/planet_earth/images_natural_resources/oil.jpg"/>
          <p:cNvPicPr/>
          <p:nvPr/>
        </p:nvPicPr>
        <p:blipFill>
          <a:blip r:embed="rId2"/>
          <a:srcRect l="0" t="0" r="0" b="67805"/>
          <a:stretch/>
        </p:blipFill>
        <p:spPr>
          <a:xfrm>
            <a:off x="6858000" y="4724280"/>
            <a:ext cx="1828800" cy="2055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http://img.alibaba.com/photo/101636275/THERMAL_STEAM_COAL.jpg"/>
          <p:cNvPicPr/>
          <p:nvPr/>
        </p:nvPicPr>
        <p:blipFill>
          <a:blip r:embed="rId3"/>
          <a:stretch/>
        </p:blipFill>
        <p:spPr>
          <a:xfrm>
            <a:off x="6858000" y="2708280"/>
            <a:ext cx="18288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cc99ff">
              <a:alpha val="8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-renewabl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Rectangle 7"/>
          <p:cNvGrpSpPr/>
          <p:nvPr/>
        </p:nvGrpSpPr>
        <p:grpSpPr>
          <a:xfrm>
            <a:off x="-60480" y="1639800"/>
            <a:ext cx="9259920" cy="3005280"/>
            <a:chOff x="-60480" y="1639800"/>
            <a:chExt cx="9259920" cy="3005280"/>
          </a:xfrm>
        </p:grpSpPr>
        <p:pic>
          <p:nvPicPr>
            <p:cNvPr id="101" name="Rectangle 7" descr=""/>
            <p:cNvPicPr/>
            <p:nvPr/>
          </p:nvPicPr>
          <p:blipFill>
            <a:blip r:embed="rId1"/>
            <a:stretch/>
          </p:blipFill>
          <p:spPr>
            <a:xfrm>
              <a:off x="-60480" y="1639800"/>
              <a:ext cx="925992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0" y="1676520"/>
              <a:ext cx="91440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ssil fuels like coal, oil and natural gas cannot be replaced in a short amount of time. It takes millions of years for them to reform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5" descr="the_burning_of_fossil_fuels_cannot_be_sustained_cc4o"/>
          <p:cNvPicPr/>
          <p:nvPr/>
        </p:nvPicPr>
        <p:blipFill>
          <a:blip r:embed="rId2"/>
          <a:stretch/>
        </p:blipFill>
        <p:spPr>
          <a:xfrm>
            <a:off x="0" y="3652920"/>
            <a:ext cx="4800600" cy="320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img.alibaba.com/photo/101636275/THERMAL_STEAM_COAL.jpg"/>
          <p:cNvPicPr/>
          <p:nvPr/>
        </p:nvPicPr>
        <p:blipFill>
          <a:blip r:embed="rId3"/>
          <a:stretch/>
        </p:blipFill>
        <p:spPr>
          <a:xfrm>
            <a:off x="4800600" y="3657600"/>
            <a:ext cx="4343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non-renewable resou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some examples of non-renewable resou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exhaustibl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240" y="1371240"/>
            <a:ext cx="4876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25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19194d"/>
                </a:solidFill>
                <a:uFillTx/>
                <a:latin typeface="Arial"/>
              </a:rPr>
              <a:t>Inexhaustible resources cannot ever be used up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25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19194d"/>
                </a:solidFill>
                <a:uFillTx/>
                <a:latin typeface="Arial"/>
              </a:rPr>
              <a:t>Examples: Sunlight, wind, air, wat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25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http://www.in.gov/oed/images/iStock_000000584982Small.jpg"/>
          <p:cNvPicPr/>
          <p:nvPr/>
        </p:nvPicPr>
        <p:blipFill>
          <a:blip r:embed="rId1"/>
          <a:stretch/>
        </p:blipFill>
        <p:spPr>
          <a:xfrm>
            <a:off x="5486400" y="1384200"/>
            <a:ext cx="3429000" cy="5473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5486400" y="2057400"/>
            <a:ext cx="342900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bfc5"/>
                </a:solidFill>
                <a:latin typeface="Arial"/>
                <a:ea typeface="Arial"/>
              </a:rPr>
              <a:t>Inexhaust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ccff66">
              <a:alpha val="8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exhaustibl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1676520"/>
            <a:ext cx="9144000" cy="289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  <a:ea typeface="Arial"/>
              </a:rPr>
              <a:t>People cannot use up all the </a:t>
            </a:r>
            <a:r>
              <a:rPr b="1" lang="en-US" sz="2400" spc="-1" strike="noStrike">
                <a:solidFill>
                  <a:srgbClr val="cc99ff"/>
                </a:solidFill>
                <a:latin typeface="Arial"/>
                <a:ea typeface="Arial"/>
              </a:rPr>
              <a:t>solar energy 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  <a:ea typeface="Arial"/>
              </a:rPr>
              <a:t>from the sun or the </a:t>
            </a:r>
            <a:r>
              <a:rPr b="1" lang="en-US" sz="2400" spc="-1" strike="noStrike">
                <a:solidFill>
                  <a:srgbClr val="cc99ff"/>
                </a:solidFill>
                <a:latin typeface="Arial"/>
                <a:ea typeface="Arial"/>
              </a:rPr>
              <a:t>air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  <a:ea typeface="Arial"/>
              </a:rPr>
              <a:t> that we brea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www.alaska-in-pictures.com/data/media/13/watery-sunlight_1109.jpg"/>
          <p:cNvPicPr/>
          <p:nvPr/>
        </p:nvPicPr>
        <p:blipFill>
          <a:blip r:embed="rId1"/>
          <a:stretch/>
        </p:blipFill>
        <p:spPr>
          <a:xfrm>
            <a:off x="0" y="3657600"/>
            <a:ext cx="2514600" cy="320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impactlab.com/wp-content/uploads/2008/06/wind_farm-82.jpg"/>
          <p:cNvPicPr/>
          <p:nvPr/>
        </p:nvPicPr>
        <p:blipFill>
          <a:blip r:embed="rId2"/>
          <a:stretch/>
        </p:blipFill>
        <p:spPr>
          <a:xfrm>
            <a:off x="2514600" y="367668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www.cirenew.org/renew/images/ocean00590.jpg"/>
          <p:cNvPicPr/>
          <p:nvPr/>
        </p:nvPicPr>
        <p:blipFill>
          <a:blip r:embed="rId3"/>
          <a:stretch/>
        </p:blipFill>
        <p:spPr>
          <a:xfrm>
            <a:off x="7243920" y="5334120"/>
            <a:ext cx="1900080" cy="1523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http://farm3.static.flickr.com/2190/2261662262_a7775f6fb5.jpg?v=0"/>
          <p:cNvPicPr/>
          <p:nvPr/>
        </p:nvPicPr>
        <p:blipFill>
          <a:blip r:embed="rId4"/>
          <a:stretch/>
        </p:blipFill>
        <p:spPr>
          <a:xfrm>
            <a:off x="7238880" y="3657600"/>
            <a:ext cx="1930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inexhaustible resou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some examples of inexhaustible resou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egory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img441.imageshack.us/img441/3200/r139061476078vo1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463680" y="176040"/>
            <a:ext cx="8064360" cy="2347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http://content.answers.com/main/content/wp/en/6/65/Oil_sands_open_pit_mining.jpg"/>
          <p:cNvPicPr/>
          <p:nvPr/>
        </p:nvPicPr>
        <p:blipFill>
          <a:blip r:embed="rId3"/>
          <a:stretch/>
        </p:blipFill>
        <p:spPr>
          <a:xfrm>
            <a:off x="128520" y="4187880"/>
            <a:ext cx="2595600" cy="3608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www.arizonamemorial.org/images/page-headers/locations/kalaupapa-natural-resources.jpg"/>
          <p:cNvPicPr/>
          <p:nvPr/>
        </p:nvPicPr>
        <p:blipFill>
          <a:blip r:embed="rId4"/>
          <a:stretch/>
        </p:blipFill>
        <p:spPr>
          <a:xfrm>
            <a:off x="3133800" y="4591080"/>
            <a:ext cx="275436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http://egov.oregon.gov/ODA/NRD/images/feature/red_pond.jpg"/>
          <p:cNvPicPr/>
          <p:nvPr/>
        </p:nvPicPr>
        <p:blipFill>
          <a:blip r:embed="rId5"/>
          <a:stretch/>
        </p:blipFill>
        <p:spPr>
          <a:xfrm>
            <a:off x="6303960" y="4187880"/>
            <a:ext cx="25588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3" name="AutoShape 13"/>
          <p:cNvCxnSpPr/>
          <p:nvPr/>
        </p:nvCxnSpPr>
        <p:spPr>
          <a:xfrm flipH="1">
            <a:off x="4494960" y="3733920"/>
            <a:ext cx="2520" cy="1467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AutoShape 13"/>
          <p:cNvCxnSpPr/>
          <p:nvPr/>
        </p:nvCxnSpPr>
        <p:spPr>
          <a:xfrm flipH="1">
            <a:off x="1293120" y="3735360"/>
            <a:ext cx="396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5" name="Group 2"/>
          <p:cNvGrpSpPr/>
          <p:nvPr/>
        </p:nvGrpSpPr>
        <p:grpSpPr>
          <a:xfrm>
            <a:off x="152280" y="914400"/>
            <a:ext cx="8686440" cy="5229360"/>
            <a:chOff x="152280" y="914400"/>
            <a:chExt cx="8686440" cy="5229360"/>
          </a:xfrm>
        </p:grpSpPr>
        <p:sp>
          <p:nvSpPr>
            <p:cNvPr id="126" name="Rectangle 3"/>
            <p:cNvSpPr/>
            <p:nvPr/>
          </p:nvSpPr>
          <p:spPr>
            <a:xfrm>
              <a:off x="2929680" y="914400"/>
              <a:ext cx="3326760" cy="533160"/>
            </a:xfrm>
            <a:prstGeom prst="rect">
              <a:avLst/>
            </a:prstGeom>
            <a:solidFill>
              <a:srgbClr val="92d05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NATURAL RESOURC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"/>
            <p:cNvSpPr/>
            <p:nvPr/>
          </p:nvSpPr>
          <p:spPr>
            <a:xfrm>
              <a:off x="3243600" y="3179880"/>
              <a:ext cx="2582280" cy="516600"/>
            </a:xfrm>
            <a:prstGeom prst="rect">
              <a:avLst/>
            </a:prstGeom>
            <a:solidFill>
              <a:srgbClr val="00b0f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on-renewable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5"/>
            <p:cNvSpPr/>
            <p:nvPr/>
          </p:nvSpPr>
          <p:spPr>
            <a:xfrm>
              <a:off x="304560" y="3179880"/>
              <a:ext cx="2284200" cy="51660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newable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6328080" y="5216040"/>
              <a:ext cx="2510640" cy="927720"/>
            </a:xfrm>
            <a:prstGeom prst="rect">
              <a:avLst/>
            </a:prstGeom>
            <a:solidFill>
              <a:srgbClr val="cc66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hey cannot be used 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7"/>
            <p:cNvSpPr/>
            <p:nvPr/>
          </p:nvSpPr>
          <p:spPr>
            <a:xfrm>
              <a:off x="3315240" y="5216040"/>
              <a:ext cx="2501640" cy="927720"/>
            </a:xfrm>
            <a:prstGeom prst="rect">
              <a:avLst/>
            </a:prstGeom>
            <a:solidFill>
              <a:srgbClr val="00b0f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hey cannot be replaced in a short amount of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8"/>
            <p:cNvSpPr/>
            <p:nvPr/>
          </p:nvSpPr>
          <p:spPr>
            <a:xfrm>
              <a:off x="152280" y="5216040"/>
              <a:ext cx="2537640" cy="927720"/>
            </a:xfrm>
            <a:prstGeom prst="rect">
              <a:avLst/>
            </a:prstGeom>
            <a:solidFill>
              <a:srgbClr val="ffff0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hey can be replaced in a short amount of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9"/>
            <p:cNvSpPr/>
            <p:nvPr/>
          </p:nvSpPr>
          <p:spPr>
            <a:xfrm>
              <a:off x="6202800" y="3170160"/>
              <a:ext cx="2582280" cy="526320"/>
            </a:xfrm>
            <a:prstGeom prst="rect">
              <a:avLst/>
            </a:prstGeom>
            <a:solidFill>
              <a:srgbClr val="cc66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exhaustible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" name="AutoShape 10"/>
            <p:cNvCxnSpPr/>
            <p:nvPr/>
          </p:nvCxnSpPr>
          <p:spPr>
            <a:xfrm flipH="1">
              <a:off x="1294920" y="1258200"/>
              <a:ext cx="1635120" cy="1942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AutoShape 11"/>
            <p:cNvCxnSpPr/>
            <p:nvPr/>
          </p:nvCxnSpPr>
          <p:spPr>
            <a:xfrm>
              <a:off x="6256080" y="1162800"/>
              <a:ext cx="1354680" cy="2008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AutoShape 12"/>
            <p:cNvCxnSpPr/>
            <p:nvPr/>
          </p:nvCxnSpPr>
          <p:spPr>
            <a:xfrm flipH="1">
              <a:off x="4480920" y="1446480"/>
              <a:ext cx="14760" cy="1723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AutoShape 13"/>
            <p:cNvCxnSpPr/>
            <p:nvPr/>
          </p:nvCxnSpPr>
          <p:spPr>
            <a:xfrm>
              <a:off x="7610400" y="3819960"/>
              <a:ext cx="1080" cy="139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" name="Rectangle 14"/>
            <p:cNvSpPr/>
            <p:nvPr/>
          </p:nvSpPr>
          <p:spPr>
            <a:xfrm>
              <a:off x="330840" y="4317840"/>
              <a:ext cx="1954800" cy="353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hich means th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3386880" y="4317840"/>
              <a:ext cx="1954800" cy="353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hich means th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6588360" y="4317840"/>
              <a:ext cx="1954800" cy="353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hich means th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24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it Slip – On a half sheet of paper, write your name and the numbers 1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ontent Placeholder 2" descr=""/>
          <p:cNvPicPr/>
          <p:nvPr/>
        </p:nvPicPr>
        <p:blipFill>
          <a:blip r:embed="rId1"/>
          <a:stretch/>
        </p:blipFill>
        <p:spPr>
          <a:xfrm>
            <a:off x="-6480" y="1901880"/>
            <a:ext cx="915696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9e9f7"/>
              </a:gs>
              <a:gs pos="100000">
                <a:srgbClr val="acace1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ODAY’S OBJEC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By the end of today’s less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should be able to classify natural resources as being renewable, non-renewable or inexhaust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00000"/>
                </a:solidFill>
                <a:latin typeface="Arial"/>
              </a:rPr>
              <a:t>2.1 Resources: Class Notes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15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bgr.bund.de/EN/Themen/Klimaentwicklung/Bilder/klimaentwicklung__1__g__en,property=default.jpg"/>
          <p:cNvPicPr/>
          <p:nvPr/>
        </p:nvPicPr>
        <p:blipFill>
          <a:blip r:embed="rId2"/>
          <a:stretch/>
        </p:blipFill>
        <p:spPr>
          <a:xfrm>
            <a:off x="1905120" y="3760920"/>
            <a:ext cx="4128840" cy="309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isconsin.sierraclub.org/gwg/kids/images/AwarenessNaturalResourcesDefenseCouncilbear.bmp"/>
          <p:cNvPicPr/>
          <p:nvPr/>
        </p:nvPicPr>
        <p:blipFill>
          <a:blip r:embed="rId3"/>
          <a:stretch/>
        </p:blipFill>
        <p:spPr>
          <a:xfrm>
            <a:off x="6019920" y="44956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www.depts.ttu.edu/CASNR/Water/water1.jpg"/>
          <p:cNvPicPr/>
          <p:nvPr/>
        </p:nvPicPr>
        <p:blipFill>
          <a:blip r:embed="rId4"/>
          <a:stretch/>
        </p:blipFill>
        <p:spPr>
          <a:xfrm>
            <a:off x="6002280" y="2327400"/>
            <a:ext cx="3141720" cy="224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Documents and Settings\Benjamin Glover\Local Settings\Temporary Internet Files\Content.IE5\EAWGB4M0\MCj04298150000[1].wmf"/>
          <p:cNvPicPr/>
          <p:nvPr/>
        </p:nvPicPr>
        <p:blipFill>
          <a:blip r:embed="rId5"/>
          <a:stretch/>
        </p:blipFill>
        <p:spPr>
          <a:xfrm>
            <a:off x="7238880" y="1028880"/>
            <a:ext cx="1905120" cy="201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0"/>
          <p:cNvSpPr/>
          <p:nvPr/>
        </p:nvSpPr>
        <p:spPr>
          <a:xfrm>
            <a:off x="0" y="1295280"/>
            <a:ext cx="609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194d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 u="sng">
                <a:solidFill>
                  <a:srgbClr val="19194d"/>
                </a:solidFill>
                <a:uFillTx/>
                <a:latin typeface="Arial"/>
                <a:ea typeface="Arial"/>
              </a:rPr>
              <a:t>A natural resource is something made by nature that people need or use</a:t>
            </a:r>
            <a:r>
              <a:rPr b="1" lang="en-US" sz="4000" spc="-1" strike="noStrike">
                <a:solidFill>
                  <a:srgbClr val="19194d"/>
                </a:solidFill>
                <a:latin typeface="Arial"/>
                <a:ea typeface="Arial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natural resour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3"/>
          <p:cNvSpPr/>
          <p:nvPr/>
        </p:nvSpPr>
        <p:spPr>
          <a:xfrm>
            <a:off x="0" y="1143000"/>
            <a:ext cx="9144000" cy="6001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 flipV="1">
            <a:off x="5334120" y="6735600"/>
            <a:ext cx="1904760" cy="1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3429000" y="2946240"/>
            <a:ext cx="3733920" cy="146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2bfc5"/>
                </a:solidFill>
                <a:latin typeface="Arial"/>
                <a:ea typeface="Arial"/>
              </a:rPr>
              <a:t>Non- Renewable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0" y="2946240"/>
            <a:ext cx="3429000" cy="146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2bfc5"/>
                </a:solidFill>
                <a:latin typeface="Arial"/>
                <a:ea typeface="Arial"/>
              </a:rPr>
              <a:t>Renewable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-55440" y="804960"/>
            <a:ext cx="9254880" cy="170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greenscreen.org/articles_sr/planet_earth/images_natural_resources/oil.jpg"/>
          <p:cNvPicPr/>
          <p:nvPr/>
        </p:nvPicPr>
        <p:blipFill>
          <a:blip r:embed="rId2"/>
          <a:srcRect l="0" t="34145" r="0" b="0"/>
          <a:stretch/>
        </p:blipFill>
        <p:spPr>
          <a:xfrm>
            <a:off x="3429000" y="426708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www.greenscreen.org/articles_sr/planet_earth/images_natural_resources/oil.jpg"/>
          <p:cNvPicPr/>
          <p:nvPr/>
        </p:nvPicPr>
        <p:blipFill>
          <a:blip r:embed="rId3"/>
          <a:srcRect l="0" t="0" r="0" b="67805"/>
          <a:stretch/>
        </p:blipFill>
        <p:spPr>
          <a:xfrm>
            <a:off x="5334120" y="5514840"/>
            <a:ext cx="190476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://www.in.gov/oed/images/iStock_000000584982Small.jpg"/>
          <p:cNvPicPr/>
          <p:nvPr/>
        </p:nvPicPr>
        <p:blipFill>
          <a:blip r:embed="rId4"/>
          <a:stretch/>
        </p:blipFill>
        <p:spPr>
          <a:xfrm>
            <a:off x="7162920" y="434340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7162920" y="2944800"/>
            <a:ext cx="198108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bfc5"/>
                </a:solidFill>
                <a:latin typeface="Arial"/>
                <a:ea typeface="Arial"/>
              </a:rPr>
              <a:t>Inexhaust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4"/>
          <p:cNvSpPr/>
          <p:nvPr/>
        </p:nvSpPr>
        <p:spPr>
          <a:xfrm flipH="1">
            <a:off x="7162920" y="2970360"/>
            <a:ext cx="1440" cy="388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17"/>
          <p:cNvSpPr/>
          <p:nvPr/>
        </p:nvSpPr>
        <p:spPr>
          <a:xfrm flipH="1" flipV="1">
            <a:off x="0" y="2971800"/>
            <a:ext cx="9144000" cy="144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1"/>
          <p:cNvSpPr/>
          <p:nvPr/>
        </p:nvSpPr>
        <p:spPr>
          <a:xfrm flipH="1" flipV="1">
            <a:off x="0" y="6856560"/>
            <a:ext cx="9144000" cy="144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http://img.alibaba.com/photo/101636275/THERMAL_STEAM_COAL.jpg"/>
          <p:cNvPicPr/>
          <p:nvPr/>
        </p:nvPicPr>
        <p:blipFill>
          <a:blip r:embed="rId5"/>
          <a:stretch/>
        </p:blipFill>
        <p:spPr>
          <a:xfrm>
            <a:off x="5334120" y="4267080"/>
            <a:ext cx="1828800" cy="1254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ttp://assets.zoomza.com/images/thumbs/categories/myspace_layouts/Animals.jpg"/>
          <p:cNvPicPr/>
          <p:nvPr/>
        </p:nvPicPr>
        <p:blipFill>
          <a:blip r:embed="rId6"/>
          <a:stretch/>
        </p:blipFill>
        <p:spPr>
          <a:xfrm>
            <a:off x="0" y="5572080"/>
            <a:ext cx="1752480" cy="12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http://z.about.com/d/landscaping/1/0/l/C/poison_sumac_plants.jpg"/>
          <p:cNvPicPr/>
          <p:nvPr/>
        </p:nvPicPr>
        <p:blipFill>
          <a:blip r:embed="rId7"/>
          <a:stretch/>
        </p:blipFill>
        <p:spPr>
          <a:xfrm>
            <a:off x="1752480" y="5581800"/>
            <a:ext cx="1676520" cy="1276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7"/>
          <p:cNvSpPr/>
          <p:nvPr/>
        </p:nvSpPr>
        <p:spPr>
          <a:xfrm>
            <a:off x="0" y="4267080"/>
            <a:ext cx="990720" cy="1295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8"/>
          <p:cNvSpPr/>
          <p:nvPr/>
        </p:nvSpPr>
        <p:spPr>
          <a:xfrm>
            <a:off x="990720" y="4267080"/>
            <a:ext cx="2438280" cy="1295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0"/>
          <p:cNvSpPr/>
          <p:nvPr/>
        </p:nvSpPr>
        <p:spPr>
          <a:xfrm flipH="1">
            <a:off x="3427560" y="2971800"/>
            <a:ext cx="1440" cy="388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http://www.nitrate.com/potting_soil.jpg"/>
          <p:cNvPicPr/>
          <p:nvPr/>
        </p:nvPicPr>
        <p:blipFill>
          <a:blip r:embed="rId8"/>
          <a:stretch/>
        </p:blipFill>
        <p:spPr>
          <a:xfrm>
            <a:off x="907920" y="3956040"/>
            <a:ext cx="15368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ewabl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Content Placeholder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4962600" cy="546264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5105520" y="2438280"/>
            <a:ext cx="3429000" cy="146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2bfc5"/>
                </a:solidFill>
                <a:latin typeface="Arial"/>
                <a:ea typeface="Arial"/>
              </a:rPr>
              <a:t>Renewable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http://assets.zoomza.com/images/thumbs/categories/myspace_layouts/Animals.jpg"/>
          <p:cNvPicPr/>
          <p:nvPr/>
        </p:nvPicPr>
        <p:blipFill>
          <a:blip r:embed="rId2"/>
          <a:stretch/>
        </p:blipFill>
        <p:spPr>
          <a:xfrm>
            <a:off x="5105520" y="5064120"/>
            <a:ext cx="1752480" cy="128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z.about.com/d/landscaping/1/0/l/C/poison_sumac_plants.jpg"/>
          <p:cNvPicPr/>
          <p:nvPr/>
        </p:nvPicPr>
        <p:blipFill>
          <a:blip r:embed="rId3"/>
          <a:stretch/>
        </p:blipFill>
        <p:spPr>
          <a:xfrm>
            <a:off x="6858000" y="5073480"/>
            <a:ext cx="1676520" cy="127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http://www.nitrate.com/potting_soil.jpg"/>
          <p:cNvPicPr/>
          <p:nvPr/>
        </p:nvPicPr>
        <p:blipFill>
          <a:blip r:embed="rId4"/>
          <a:stretch/>
        </p:blipFill>
        <p:spPr>
          <a:xfrm>
            <a:off x="6016680" y="3449520"/>
            <a:ext cx="15303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e9e9f7"/>
              </a:gs>
              <a:gs pos="100000">
                <a:srgbClr val="acace1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ewabl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http://www.jasonthomasdesign.com/web_portfolio/pages/going_green/site/living/images/soil.JPG"/>
          <p:cNvPicPr/>
          <p:nvPr/>
        </p:nvPicPr>
        <p:blipFill>
          <a:blip r:embed="rId1"/>
          <a:stretch/>
        </p:blipFill>
        <p:spPr>
          <a:xfrm>
            <a:off x="0" y="4554360"/>
            <a:ext cx="2971800" cy="230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ttp://www.givemetrees.org/images/wicked-trees.jpg"/>
          <p:cNvPicPr/>
          <p:nvPr/>
        </p:nvPicPr>
        <p:blipFill>
          <a:blip r:embed="rId2"/>
          <a:stretch/>
        </p:blipFill>
        <p:spPr>
          <a:xfrm>
            <a:off x="609588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http://animalstoo.net/wp/Animals-photo.jpg"/>
          <p:cNvPicPr/>
          <p:nvPr/>
        </p:nvPicPr>
        <p:blipFill>
          <a:blip r:embed="rId3"/>
          <a:stretch/>
        </p:blipFill>
        <p:spPr>
          <a:xfrm>
            <a:off x="2971800" y="451476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0" y="1676520"/>
            <a:ext cx="9144000" cy="28954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ts are renewable resources because when old plants d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 plants quickly grow in their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imals give birth to othe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il is produce relatively quickly by weathering of 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4:53:47Z</dcterms:created>
  <dc:creator>Babak Mostaghimi</dc:creator>
  <dc:description/>
  <dc:language>en-US</dc:language>
  <cp:lastModifiedBy>Caroline Roth</cp:lastModifiedBy>
  <cp:lastPrinted>2010-04-12T03:21:18Z</cp:lastPrinted>
  <dcterms:modified xsi:type="dcterms:W3CDTF">2010-09-07T21:23:30Z</dcterms:modified>
  <cp:revision>107</cp:revision>
  <dc:subject/>
  <dc:title>Topic: Pollution, Fossil Fuels, and Renewable Resources</dc:title>
</cp:coreProperties>
</file>